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image6.png" ContentType="image/png"/>
  <Override PartName="/ppt/media/LASER.WAV" ContentType="audio/x-wav"/>
  <Override PartName="/ppt/media/GLASS.WAV" ContentType="audio/x-wav"/>
  <Override PartName="/ppt/media/CAMERA.WAV" ContentType="audio/x-wav"/>
  <Override PartName="/ppt/media/DRUMROLL.WAV" ContentType="audio/x-wav"/>
  <Override PartName="/ppt/media/image5.png" ContentType="image/png"/>
  <Override PartName="/ppt/media/image8.jpeg" ContentType="image/jpeg"/>
  <Override PartName="/ppt/media/TYPE.WAV" ContentType="audio/x-wav"/>
  <Override PartName="/ppt/media/image4.png" ContentType="image/png"/>
  <Override PartName="/ppt/media/CHIMES.WAV" ContentType="audio/x-wav"/>
  <Override PartName="/ppt/media/image3.wmf" ContentType="image/x-wmf"/>
  <Override PartName="/ppt/media/image2.jpeg" ContentType="image/jpeg"/>
  <Override PartName="/ppt/media/RICOCHET.WAV" ContentType="audio/x-wav"/>
  <Override PartName="/ppt/media/image1.png" ContentType="image/png"/>
  <Override PartName="/ppt/media/APPLAUSE.WAV" ContentType="audio/x-wav"/>
  <Override PartName="/ppt/media/CLAP.WAV" ContentType="audio/x-wav"/>
  <Override PartName="/ppt/media/image15.wmf" ContentType="image/x-wmf"/>
  <Override PartName="/ppt/media/GUNSHOT.WAV" ContentType="audio/x-wav"/>
  <Override PartName="/ppt/media/image12.jpeg" ContentType="image/jpeg"/>
  <Override PartName="/ppt/media/image13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image14.jpeg" ContentType="image/jpeg"/>
  <Override PartName="/ppt/media/WHOOSH.WAV" ContentType="audio/x-wav"/>
  <Override PartName="/ppt/media/PROJCTOR.WAV" ContentType="audio/x-wav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1975-8702-47D8-9032-DA04CF96D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A210-66EB-4898-8885-A350D2BA1A52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8A28-0410-4306-9BDF-EE05ADCDC1A1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A7F4-09C1-4419-BA53-CFD00F9560EE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E7A2-7C60-4AA7-826C-182189349039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E367-363A-4D6B-AF97-B665AE29FE03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7340-3633-4143-B74A-C489025921F4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58B3-D394-418D-BFC9-522925C151ED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375C-DD16-47BA-AE33-060AA9C0831B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D2C8-71EE-44FA-87B6-2AAEAC3FAE00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C84F-1978-42BE-B45B-76AE5D0F781E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B33C-41F8-4553-B4D4-020734FD451C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19ED-3B1C-4B97-8531-485FD9775317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8391-D393-4575-B956-0313AE516C61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65BE-A390-4689-92ED-793877153454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569B-44A9-47CA-ADF5-0A59ADDB96A7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D93-17A1-409F-9623-B907F46D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D0B-800B-4F64-9686-A6F6B8A0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D5A-A1F8-47EA-A09C-68AE6FED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2DD-5BE9-4512-8B7C-2FCBE9D6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829A-4984-47A1-8E1D-A83E5210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2B99-4FED-4506-B2CE-5DF73CA3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FACE-7933-46E1-9B78-5ABDC605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04D5-9FCA-4425-A121-AEF7DAB4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3F1B-F514-49A1-B18E-033155F4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7995-87DF-477B-A095-88C8088F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ABDA-6EB8-4772-A0DC-BE516837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74B-A7BF-437D-BA2E-2B1199C5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8565-11AA-4294-8B62-6236A03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B1D9-4C06-4EDD-A2DB-37AC04E5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73E0-7A41-45B1-AA90-9BA8AA47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0011-AD99-4EB1-B085-959C3689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DB08-276F-4F5F-A71F-EAB56E3F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13E-AB86-46AD-8AA8-CBEA2372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594-4569-49BA-96E9-D888283C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DC3-0067-4944-ACB6-4A677B09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0BD-812F-4460-8AA7-5E1FA4CF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B8C-320C-4880-8E8A-37150937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54B-E045-4931-966F-5510C88F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C03-998C-4471-AC47-0E24F59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FDB4-9101-4EEB-A0A6-87CB9198CF4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BAD2-4B82-4430-9B0D-EA601626171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apeare’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The greatest poet and playwrigh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Object 4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981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bjections to Theater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rge assemblies of peo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read dise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lt by associ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159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elebrates the passion of youthful lo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es back to 400 AD in a Greek Ro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ud--a prolonged conflict between famil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feud is so old that the cause has been forgotte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Balcony Sc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meo, Romeo,            Wherefore art thou  Romeo?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member:    Wherefore means “Wh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3" name="Picture 9" descr="Dicksee"/>
          <p:cNvPicPr/>
          <p:nvPr/>
        </p:nvPicPr>
        <p:blipFill>
          <a:blip r:embed="rId1"/>
          <a:stretch/>
        </p:blipFill>
        <p:spPr>
          <a:xfrm>
            <a:off x="4503600" y="1295280"/>
            <a:ext cx="375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 Crossed Lo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omeo and Julie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a traged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a tragedy many of the main characters die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-176832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Picture 6" descr="Leighton"/>
          <p:cNvPicPr/>
          <p:nvPr/>
        </p:nvPicPr>
        <p:blipFill>
          <a:blip r:embed="rId1"/>
          <a:stretch/>
        </p:blipFill>
        <p:spPr>
          <a:xfrm>
            <a:off x="3962520" y="1676520"/>
            <a:ext cx="4221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The End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0" name="Object 4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9a7f32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a7f32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402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ll’s Cro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kespeare was born  in 1564 in Stratford-on-Av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n of John &amp; Mary A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ilar to the home young Shakespeare may have grown up 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Picture 5" descr="croft"/>
          <p:cNvPicPr/>
          <p:nvPr/>
        </p:nvPicPr>
        <p:blipFill>
          <a:blip r:embed="rId1"/>
          <a:stretch/>
        </p:blipFill>
        <p:spPr>
          <a:xfrm>
            <a:off x="762120" y="253692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spe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cho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583 Married  Anne Hathaw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sanna, Hamnet, Judi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 Dark Ye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Picture 6" descr="shake2"/>
          <p:cNvPicPr/>
          <p:nvPr/>
        </p:nvPicPr>
        <p:blipFill>
          <a:blip r:embed="rId1"/>
          <a:stretch/>
        </p:blipFill>
        <p:spPr>
          <a:xfrm>
            <a:off x="4867200" y="1905120"/>
            <a:ext cx="34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in 1600’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36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ditions in London were not pleasant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mes of the poor were small and dir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wage ran in open ditches in the stre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ercrowding and unemployment were major problems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Picture 5" descr="VisscherLondonBridgesm"/>
          <p:cNvPicPr/>
          <p:nvPr/>
        </p:nvPicPr>
        <p:blipFill>
          <a:blip r:embed="rId2"/>
          <a:stretch/>
        </p:blipFill>
        <p:spPr>
          <a:xfrm>
            <a:off x="1039680" y="1752480"/>
            <a:ext cx="368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Picture 6" descr="londonbridgemed"/>
          <p:cNvPicPr/>
          <p:nvPr/>
        </p:nvPicPr>
        <p:blipFill>
          <a:blip r:embed="rId1"/>
          <a:stretch/>
        </p:blipFill>
        <p:spPr>
          <a:xfrm>
            <a:off x="2819520" y="1828800"/>
            <a:ext cx="59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he New Globe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00400" y="41148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05184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7" name="Picture 6" descr="Globe99sm"/>
          <p:cNvPicPr/>
          <p:nvPr/>
        </p:nvPicPr>
        <p:blipFill>
          <a:blip r:embed="rId1"/>
          <a:stretch/>
        </p:blipFill>
        <p:spPr>
          <a:xfrm>
            <a:off x="6248520" y="5715000"/>
            <a:ext cx="228600" cy="17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newglobe"/>
          <p:cNvPicPr/>
          <p:nvPr/>
        </p:nvPicPr>
        <p:blipFill>
          <a:blip r:embed="rId2"/>
          <a:stretch/>
        </p:blipFill>
        <p:spPr>
          <a:xfrm>
            <a:off x="1981080" y="2057400"/>
            <a:ext cx="57913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Glob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ted on the south bank of the Tha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most famous London Playh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wned by the Burbage fami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lew a flag to announce a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cting companies used boys to play female rol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wealthy’s view of the st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3" name="Picture 5" descr="audi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765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The Heavens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s seen by the groundl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6" name="Picture 5" descr="scfrns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23:48Z</dcterms:created>
  <dc:creator>GCHS</dc:creator>
  <dc:description/>
  <dc:language>en-US</dc:language>
  <cp:lastModifiedBy>dk</cp:lastModifiedBy>
  <dcterms:modified xsi:type="dcterms:W3CDTF">2010-05-12T12:06:05Z</dcterms:modified>
  <cp:revision>39</cp:revision>
  <dc:subject/>
  <dc:title>romeo and juliet</dc:title>
</cp:coreProperties>
</file>