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7.jpeg" ContentType="image/jpeg"/>
  <Override PartName="/ppt/media/image6.png" ContentType="image/png"/>
  <Override PartName="/ppt/media/LASER.WAV" ContentType="audio/x-wav"/>
  <Override PartName="/ppt/media/GLASS.WAV" ContentType="audio/x-wav"/>
  <Override PartName="/ppt/media/CAMERA.WAV" ContentType="audio/x-wav"/>
  <Override PartName="/ppt/media/DRUMROLL.WAV" ContentType="audio/x-wav"/>
  <Override PartName="/ppt/media/image5.png" ContentType="image/png"/>
  <Override PartName="/ppt/media/image8.jpeg" ContentType="image/jpeg"/>
  <Override PartName="/ppt/media/TYPE.WAV" ContentType="audio/x-wav"/>
  <Override PartName="/ppt/media/image4.png" ContentType="image/png"/>
  <Override PartName="/ppt/media/CHIMES.WAV" ContentType="audio/x-wav"/>
  <Override PartName="/ppt/media/image3.wmf" ContentType="image/x-wmf"/>
  <Override PartName="/ppt/media/image2.jpeg" ContentType="image/jpeg"/>
  <Override PartName="/ppt/media/RICOCHET.WAV" ContentType="audio/x-wav"/>
  <Override PartName="/ppt/media/image1.png" ContentType="image/png"/>
  <Override PartName="/ppt/media/APPLAUSE.WAV" ContentType="audio/x-wav"/>
  <Override PartName="/ppt/media/CLAP.WAV" ContentType="audio/x-wav"/>
  <Override PartName="/ppt/media/image15.wmf" ContentType="image/x-wmf"/>
  <Override PartName="/ppt/media/GUNSHOT.WAV" ContentType="audio/x-wav"/>
  <Override PartName="/ppt/media/image12.jpeg" ContentType="image/jpeg"/>
  <Override PartName="/ppt/media/image13.png" ContentType="image/png"/>
  <Override PartName="/ppt/media/image10.png" ContentType="image/png"/>
  <Override PartName="/ppt/media/image11.jpeg" ContentType="image/jpeg"/>
  <Override PartName="/ppt/media/image9.jpeg" ContentType="image/jpeg"/>
  <Override PartName="/ppt/media/image14.jpeg" ContentType="image/jpeg"/>
  <Override PartName="/ppt/media/WHOOSH.WAV" ContentType="audio/x-wav"/>
  <Override PartName="/ppt/media/PROJCTOR.WAV" ContentType="audio/x-wav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5F91-EDD4-43DC-BD95-C03AB9936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29CF-59D6-420D-9695-326AD7C97C73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C48D-AB90-4F77-8C24-1E29B43CE537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3AD6-6504-4BB1-8DB2-AF4595747363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816E-92E2-4161-896E-8B771AC2750F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89D1-D3A4-4994-AC91-7B2428C451DF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FD6C-5EF2-4036-8B15-3FF1092137BA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91E6-73D2-49F0-B42A-9781DA41FB9F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681F-5065-4097-93E3-555D3D001514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4BF6-897F-49CF-9909-D8E767F76EBF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0DB0-E756-404A-9ACD-09C46A66A8B3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7C28-8A56-4090-91CA-B3A5235D3ADF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92DD-D505-4D7D-8ABD-299D672991C9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3209-5A5F-4307-8B3C-B4D8E141F438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4E81-807C-4D01-9FD7-C75B68E9BED7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0B11-5200-4E12-823B-F41C50850B74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8C8-F592-402D-8B55-1C582385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E1E-784D-4E5A-BDCC-6D46773C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D7E-9B18-4733-A27B-347CB203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86C-6502-4EF1-B7CF-12D3D9E9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D01E-2B02-4EE0-98AF-6499CF2E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9F0D-1CE6-4B03-AFB9-1089FDF9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4E6E-8630-4C52-B9ED-EEC518CC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1E35-5EED-495B-BF22-742C1AAA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07A9-EB35-4BFE-8F91-224A4D58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AF37-0928-43E9-B9D2-748AE2C7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4CDC-F6EB-4F67-B943-98BD4DD4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454-DAFD-473C-8D76-03BA6379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6B31-94A0-4973-9C53-9A468F8A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29E6-C1DF-4878-B562-E03BD9C2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B0AA-C036-443C-A34A-49E698CF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404E-36EF-4590-9FAE-FEE75294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F198-866E-441F-8763-B1CD0CD1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F2B-CDBA-4D61-8ED3-B57A6418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E48-CC50-44E1-9042-407A9B6A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F16-8ACC-465D-8A1E-9AC04711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E65-85A0-48D0-A35B-26AFD11C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4A0-A6AF-4572-B79E-283A3813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C6B-1371-492D-8780-893DE037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904B-A7F6-4807-84A6-091B7A6A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1EE5-8136-42AB-9EAF-713EF5D1DEB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312A-DD92-4345-A84F-61EAB87E024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LAP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apeare’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fe and Tim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The greatest poet and playwrigh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8" name="Object 4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19814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bjections to Theaters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arge assemblies of peop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read dise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uilt by associ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aters were often located outside the city walls to avoid censor by London’s Lord Mayo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   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ten in 1599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elebrates the passion of youthful lo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ates back to 400 AD in a Greek Ro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eud--a prolonged conflict between famili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feud is so old that the cause has been forgotten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Balcony Sce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omeo, Romeo,            Wherefore art thou  Romeo?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member:    Wherefore means “Why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3" name="Picture 9" descr="Dicksee"/>
          <p:cNvPicPr/>
          <p:nvPr/>
        </p:nvPicPr>
        <p:blipFill>
          <a:blip r:embed="rId1"/>
          <a:stretch/>
        </p:blipFill>
        <p:spPr>
          <a:xfrm>
            <a:off x="4503600" y="1295280"/>
            <a:ext cx="3757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ar Crossed Lov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Romeo and Juliet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a tragedy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 a tragedy many of the main characters die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-1768320" y="552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7" name="Picture 6" descr="Leighton"/>
          <p:cNvPicPr/>
          <p:nvPr/>
        </p:nvPicPr>
        <p:blipFill>
          <a:blip r:embed="rId1"/>
          <a:stretch/>
        </p:blipFill>
        <p:spPr>
          <a:xfrm>
            <a:off x="3962520" y="1676520"/>
            <a:ext cx="4221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ahoma"/>
              </a:rPr>
              <a:t>The End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40" name="Object 4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9a7f32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a7f32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402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ll’s Crof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599840"/>
            <a:ext cx="3352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hakespeare was born  in 1564 in Stratford-on-Av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n of John &amp; Mary A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imilar to the home young Shakespeare may have grown up i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Picture 5" descr="croft"/>
          <p:cNvPicPr/>
          <p:nvPr/>
        </p:nvPicPr>
        <p:blipFill>
          <a:blip r:embed="rId1"/>
          <a:stretch/>
        </p:blipFill>
        <p:spPr>
          <a:xfrm>
            <a:off x="762120" y="2536920"/>
            <a:ext cx="472428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spea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choo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583 Married  Anne Hathawa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sanna, Hamnet, Judit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 Dark Ye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5" name="Picture 6" descr="shake2"/>
          <p:cNvPicPr/>
          <p:nvPr/>
        </p:nvPicPr>
        <p:blipFill>
          <a:blip r:embed="rId1"/>
          <a:stretch/>
        </p:blipFill>
        <p:spPr>
          <a:xfrm>
            <a:off x="4867200" y="1905120"/>
            <a:ext cx="341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in 1600’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0360" y="18288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ditions in London were not pleasant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omes of the poor were small and dir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wage ran in open ditches in the stre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vercrowding and unemployment were major problems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9" name="Picture 5" descr="VisscherLondonBridgesm"/>
          <p:cNvPicPr/>
          <p:nvPr/>
        </p:nvPicPr>
        <p:blipFill>
          <a:blip r:embed="rId2"/>
          <a:stretch/>
        </p:blipFill>
        <p:spPr>
          <a:xfrm>
            <a:off x="1039680" y="1752480"/>
            <a:ext cx="3684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Brid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2819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eads of traitors were displayed on pikes on the city’s main bridge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3" name="Picture 6" descr="londonbridgemed"/>
          <p:cNvPicPr/>
          <p:nvPr/>
        </p:nvPicPr>
        <p:blipFill>
          <a:blip r:embed="rId1"/>
          <a:stretch/>
        </p:blipFill>
        <p:spPr>
          <a:xfrm>
            <a:off x="2819520" y="1828800"/>
            <a:ext cx="5943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he New Globe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00400" y="411480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9051840" y="-34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7" name="Picture 6" descr="Globe99sm"/>
          <p:cNvPicPr/>
          <p:nvPr/>
        </p:nvPicPr>
        <p:blipFill>
          <a:blip r:embed="rId1"/>
          <a:stretch/>
        </p:blipFill>
        <p:spPr>
          <a:xfrm>
            <a:off x="6248520" y="5715000"/>
            <a:ext cx="228600" cy="17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newglobe"/>
          <p:cNvPicPr/>
          <p:nvPr/>
        </p:nvPicPr>
        <p:blipFill>
          <a:blip r:embed="rId2"/>
          <a:stretch/>
        </p:blipFill>
        <p:spPr>
          <a:xfrm>
            <a:off x="1981080" y="2057400"/>
            <a:ext cx="57913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Glob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ocated on the south bank of the Tham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most famous London Playh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wned by the Burbage fami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lew a flag to announce a perfor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cting companies used boys to play female role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hakespeare was a member of Lord Chamberlain’s Company.  Later called the King’s M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wealthy’s view of the sta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3" name="Picture 5" descr="audi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67652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The Heavens”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s seen by the groundl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6" name="Picture 5" descr="scfrns"/>
          <p:cNvPicPr/>
          <p:nvPr/>
        </p:nvPicPr>
        <p:blipFill>
          <a:blip r:embed="rId1"/>
          <a:stretch/>
        </p:blipFill>
        <p:spPr>
          <a:xfrm>
            <a:off x="1143000" y="380880"/>
            <a:ext cx="73152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20:23:48Z</dcterms:created>
  <dc:creator>GCHS</dc:creator>
  <dc:description/>
  <dc:language>en-US</dc:language>
  <cp:lastModifiedBy>dk</cp:lastModifiedBy>
  <dcterms:modified xsi:type="dcterms:W3CDTF">2010-05-12T12:06:05Z</dcterms:modified>
  <cp:revision>39</cp:revision>
  <dc:subject/>
  <dc:title>romeo and juliet</dc:title>
</cp:coreProperties>
</file>