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7.jpeg" ContentType="image/jpeg"/>
  <Override PartName="/ppt/media/image6.png" ContentType="image/png"/>
  <Override PartName="/ppt/media/LASER.WAV" ContentType="audio/x-wav"/>
  <Override PartName="/ppt/media/GLASS.WAV" ContentType="audio/x-wav"/>
  <Override PartName="/ppt/media/CAMERA.WAV" ContentType="audio/x-wav"/>
  <Override PartName="/ppt/media/DRUMROLL.WAV" ContentType="audio/x-wav"/>
  <Override PartName="/ppt/media/image5.png" ContentType="image/png"/>
  <Override PartName="/ppt/media/image8.jpeg" ContentType="image/jpeg"/>
  <Override PartName="/ppt/media/TYPE.WAV" ContentType="audio/x-wav"/>
  <Override PartName="/ppt/media/image4.png" ContentType="image/png"/>
  <Override PartName="/ppt/media/CHIMES.WAV" ContentType="audio/x-wav"/>
  <Override PartName="/ppt/media/image3.wmf" ContentType="image/x-wmf"/>
  <Override PartName="/ppt/media/image2.jpeg" ContentType="image/jpeg"/>
  <Override PartName="/ppt/media/RICOCHET.WAV" ContentType="audio/x-wav"/>
  <Override PartName="/ppt/media/image1.png" ContentType="image/png"/>
  <Override PartName="/ppt/media/APPLAUSE.WAV" ContentType="audio/x-wav"/>
  <Override PartName="/ppt/media/CLAP.WAV" ContentType="audio/x-wav"/>
  <Override PartName="/ppt/media/image15.wmf" ContentType="image/x-wmf"/>
  <Override PartName="/ppt/media/GUNSHOT.WAV" ContentType="audio/x-wav"/>
  <Override PartName="/ppt/media/image12.jpeg" ContentType="image/jpeg"/>
  <Override PartName="/ppt/media/image13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image14.jpeg" ContentType="image/jpeg"/>
  <Override PartName="/ppt/media/WHOOSH.WAV" ContentType="audio/x-wav"/>
  <Override PartName="/ppt/media/PROJCTOR.WAV" ContentType="audio/x-wav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4D61-6A58-41AE-BC93-573E89B71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A064-D829-444D-AEF2-AF039401188F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9A57-5D31-4EEE-95CD-6A64BD098DA1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704A-40E2-4C44-A20F-0D552B88BD3E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75AF-1A9C-4F68-A6E6-98DB92172F6B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D5DC-63C8-47F4-B085-BC57DDC60BE8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7DF4-A230-49C8-88BC-7F6007129076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3EB1-F61F-4DEC-A166-174920427852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1E9E-E793-4FF0-8ABF-D40B284A5795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CA18-18EC-42FB-86E8-E5CACB9E4A44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C508-FDA1-44DC-ABF2-014032774BF3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D3A4-A2E7-4D59-94A6-70B21F04A479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CE2D-6D33-4FD6-ABE6-3CED024B2326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3FE1-1D61-4578-8103-5042BB3A137A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BF6D-86DF-49AC-B69A-3E83010F854C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4EB7-6E6B-4CCE-89F1-2C5C98F8664C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162-D82D-4944-9181-CC01F9F0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F52-07F9-4674-9466-1172117D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CBD-7731-439F-8064-8A4A1E7B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B17-2C4B-4DA9-B019-77EBC878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4732-8505-429C-BAE9-6E844940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8FCA-622C-4B6C-879C-62C7C4E9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FD5F-9E38-43E0-87B9-C2523866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1F3C-7B67-4956-A143-F9E58445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0818-28E8-4803-98E4-EDD9FE52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7EB7-2EAB-4318-AB73-14AB4BF7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CAA7-23D0-4B3C-B357-5EAE22FE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7FF-5698-4133-B71C-A5085DA5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9B94-F0E9-4077-9776-78B9649B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CC9F-D8E9-4826-8FF1-0CC23F1D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E355-5E70-4A8D-A40C-8E4D12A4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A91E-4C07-46F3-A5C0-F01F9C0A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27FE-8AB9-4E9B-BE04-F60368F2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DB8-0223-4FA7-B9CF-ED1A8EA8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D0E-D23F-44A7-B621-515A43AB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CAD-C9AA-461D-A009-BEFE46A5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845-D494-4BBB-93DB-E177FD81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139-DC80-4E69-BDBD-0C85D35E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49A-9959-454A-9EA3-4697BF4F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931-A030-4514-B73F-E09DCBDE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DBF6-602D-4731-9F9C-D8A2F11B164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A82A-C80B-4628-8FB4-67440C22F99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LAP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apeare’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The greatest poet and playwrigh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8" name="Object 4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9814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bjections to Theaters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rge assemblies of peop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read dise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uilt by associ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ten in 159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elebrates the passion of youthful lo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ates back to 400 AD in a Greek Ro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eud--a prolonged conflict between famili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feud is so old that the cause has been forgotten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Balcony Sce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meo, Romeo,            Wherefore art thou  Romeo?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member:    Wherefore means “Why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3" name="Picture 9" descr="Dicksee"/>
          <p:cNvPicPr/>
          <p:nvPr/>
        </p:nvPicPr>
        <p:blipFill>
          <a:blip r:embed="rId1"/>
          <a:stretch/>
        </p:blipFill>
        <p:spPr>
          <a:xfrm>
            <a:off x="4503600" y="1295280"/>
            <a:ext cx="3757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ar Crossed Lov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Romeo and Juliet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a tragedy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 a tragedy many of the main characters die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-1768320" y="552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7" name="Picture 6" descr="Leighton"/>
          <p:cNvPicPr/>
          <p:nvPr/>
        </p:nvPicPr>
        <p:blipFill>
          <a:blip r:embed="rId1"/>
          <a:stretch/>
        </p:blipFill>
        <p:spPr>
          <a:xfrm>
            <a:off x="3962520" y="1676520"/>
            <a:ext cx="4221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ahoma"/>
              </a:rPr>
              <a:t>The End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40" name="Object 4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9a7f32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a7f32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402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ll’s Cro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599840"/>
            <a:ext cx="3352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kespeare was born  in 1564 in Stratford-on-Av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n of John &amp; Mary A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milar to the home young Shakespeare may have grown up 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Picture 5" descr="croft"/>
          <p:cNvPicPr/>
          <p:nvPr/>
        </p:nvPicPr>
        <p:blipFill>
          <a:blip r:embed="rId1"/>
          <a:stretch/>
        </p:blipFill>
        <p:spPr>
          <a:xfrm>
            <a:off x="762120" y="2536920"/>
            <a:ext cx="472428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spea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cho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583 Married  Anne Hathaw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sanna, Hamnet, Judit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 Dark Ye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Picture 6" descr="shake2"/>
          <p:cNvPicPr/>
          <p:nvPr/>
        </p:nvPicPr>
        <p:blipFill>
          <a:blip r:embed="rId1"/>
          <a:stretch/>
        </p:blipFill>
        <p:spPr>
          <a:xfrm>
            <a:off x="4867200" y="1905120"/>
            <a:ext cx="341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in 1600’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36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ditions in London were not pleasant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omes of the poor were small and dir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wage ran in open ditches in the stre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vercrowding and unemployment were major problems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9" name="Picture 5" descr="VisscherLondonBridgesm"/>
          <p:cNvPicPr/>
          <p:nvPr/>
        </p:nvPicPr>
        <p:blipFill>
          <a:blip r:embed="rId2"/>
          <a:stretch/>
        </p:blipFill>
        <p:spPr>
          <a:xfrm>
            <a:off x="1039680" y="1752480"/>
            <a:ext cx="3684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Brid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3" name="Picture 6" descr="londonbridgemed"/>
          <p:cNvPicPr/>
          <p:nvPr/>
        </p:nvPicPr>
        <p:blipFill>
          <a:blip r:embed="rId1"/>
          <a:stretch/>
        </p:blipFill>
        <p:spPr>
          <a:xfrm>
            <a:off x="2819520" y="1828800"/>
            <a:ext cx="5943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he New Globe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00400" y="411480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9051840" y="-34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7" name="Picture 6" descr="Globe99sm"/>
          <p:cNvPicPr/>
          <p:nvPr/>
        </p:nvPicPr>
        <p:blipFill>
          <a:blip r:embed="rId1"/>
          <a:stretch/>
        </p:blipFill>
        <p:spPr>
          <a:xfrm>
            <a:off x="6248520" y="5715000"/>
            <a:ext cx="228600" cy="17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newglobe"/>
          <p:cNvPicPr/>
          <p:nvPr/>
        </p:nvPicPr>
        <p:blipFill>
          <a:blip r:embed="rId2"/>
          <a:stretch/>
        </p:blipFill>
        <p:spPr>
          <a:xfrm>
            <a:off x="1981080" y="2057400"/>
            <a:ext cx="57913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Glob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ocated on the south bank of the Tham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most famous London Playh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wned by the Burbage fami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lew a flag to announce a perfor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cting companies used boys to play female role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wealthy’s view of the sta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3" name="Picture 5" descr="audi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67652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The Heavens”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s seen by the groundl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6" name="Picture 5" descr="scfrns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23:48Z</dcterms:created>
  <dc:creator>GCHS</dc:creator>
  <dc:description/>
  <dc:language>en-US</dc:language>
  <cp:lastModifiedBy>dk</cp:lastModifiedBy>
  <dcterms:modified xsi:type="dcterms:W3CDTF">2010-05-12T12:06:05Z</dcterms:modified>
  <cp:revision>39</cp:revision>
  <dc:subject/>
  <dc:title>romeo and juliet</dc:title>
</cp:coreProperties>
</file>