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7.jpeg" ContentType="image/jpeg"/>
  <Override PartName="/ppt/media/image6.png" ContentType="image/png"/>
  <Override PartName="/ppt/media/LASER.WAV" ContentType="audio/x-wav"/>
  <Override PartName="/ppt/media/GLASS.WAV" ContentType="audio/x-wav"/>
  <Override PartName="/ppt/media/CAMERA.WAV" ContentType="audio/x-wav"/>
  <Override PartName="/ppt/media/DRUMROLL.WAV" ContentType="audio/x-wav"/>
  <Override PartName="/ppt/media/image5.png" ContentType="image/png"/>
  <Override PartName="/ppt/media/image8.jpeg" ContentType="image/jpeg"/>
  <Override PartName="/ppt/media/TYPE.WAV" ContentType="audio/x-wav"/>
  <Override PartName="/ppt/media/image4.png" ContentType="image/png"/>
  <Override PartName="/ppt/media/CHIMES.WAV" ContentType="audio/x-wav"/>
  <Override PartName="/ppt/media/image3.wmf" ContentType="image/x-wmf"/>
  <Override PartName="/ppt/media/image2.jpeg" ContentType="image/jpeg"/>
  <Override PartName="/ppt/media/RICOCHET.WAV" ContentType="audio/x-wav"/>
  <Override PartName="/ppt/media/image1.png" ContentType="image/png"/>
  <Override PartName="/ppt/media/APPLAUSE.WAV" ContentType="audio/x-wav"/>
  <Override PartName="/ppt/media/CLAP.WAV" ContentType="audio/x-wav"/>
  <Override PartName="/ppt/media/image15.wmf" ContentType="image/x-wmf"/>
  <Override PartName="/ppt/media/GUNSHOT.WAV" ContentType="audio/x-wav"/>
  <Override PartName="/ppt/media/image12.jpeg" ContentType="image/jpeg"/>
  <Override PartName="/ppt/media/image13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image14.jpeg" ContentType="image/jpeg"/>
  <Override PartName="/ppt/media/WHOOSH.WAV" ContentType="audio/x-wav"/>
  <Override PartName="/ppt/media/PROJCTOR.WAV" ContentType="audio/x-wav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5F7F-4D5B-4497-B653-E202CA6B6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B418-4104-4E5C-9564-5B69576EFEBF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1215-BB4E-4D8F-B225-B026253B4882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5498-161F-4D6E-848C-83FDCFEFD683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DE8C-531C-4B34-B1EE-4420F0F381A4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E42B-5D5C-4158-B9DB-1D7E14790552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631D-561F-4166-B9E2-84CE04788766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EE6D-AD74-46E9-9E62-1E6233DAA0DF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AE1E-64F1-4E34-A686-EF83CB67961B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74F3-3B8D-48EF-8A8B-F60D7AACEE15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31D4-AD80-4D28-B659-D46CB29206C3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1080-DF15-42D2-A531-0AB32906A406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AE19-CBDB-422C-BC49-CFC9C81C7E0C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E4D2-583C-4942-B408-7486AEB831E0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3EDD-AB44-44AF-AC22-4B208D0FB26A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2F50-4159-4072-8561-9114C75B1B63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AC7-5FF6-4DB6-BC6A-10B1529E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52D-37BA-4EF2-B587-C9864D69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B65-2505-47AA-86DC-344F254B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C0F-4F32-4A01-B9D8-0F324785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620B-A7B7-42CE-885A-89E7D19A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E775-F4D6-4EFE-99FD-A7C5D18B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C87E-0115-4DB4-BBBC-DCBC2FC0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B397-9F6A-4987-ADC9-D8C8135F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B18A-1F9E-4CE9-8E80-2CED51C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E425-60A0-412B-A0B7-F96772CF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7D8F-92DC-4F08-9A1A-5CD7FE6F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03C-0FBA-47EF-8258-6205DC1F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B8AA-B0DB-4467-A1FF-7A4FE14A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7216-B8E2-4281-AB22-CE742112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45AC-DD46-4D31-B9E7-7827B31A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F486-C6C4-43D4-B0B9-52BECA2D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2E74-FD78-43F9-A06F-32D32BD9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232-1869-4C8A-BE57-187778ED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26D-FDD7-4AA4-AB55-DF7FE339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E9C-0B57-47F7-8191-148AF1DE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F56-9FFE-43FB-96B3-D89F2F6F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3AC-E2DF-4251-923F-FAC38171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207-0C69-447E-99BB-372A5F28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597-6BC9-4CB0-A8B1-1C0F3BEA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57AD-6E5F-4FD9-8918-CD462BAD7D6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4924-0554-4F6C-AFC7-A189EC2F684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LAP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apeare’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The greatest poet and playwrigh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Object 4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981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bjections to Theater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rge assemblies of peo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read dise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uilt by associ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159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elebrates the passion of youthful lo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ates back to 400 AD in a Greek Ro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eud--a prolonged conflict between famil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feud is so old that the cause has been forgotte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Balcony Sce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meo, Romeo,            Wherefore art thou  Romeo?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member:    Wherefore means “Wh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3" name="Picture 9" descr="Dicksee"/>
          <p:cNvPicPr/>
          <p:nvPr/>
        </p:nvPicPr>
        <p:blipFill>
          <a:blip r:embed="rId1"/>
          <a:stretch/>
        </p:blipFill>
        <p:spPr>
          <a:xfrm>
            <a:off x="4503600" y="1295280"/>
            <a:ext cx="3757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 Crossed Lo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Romeo and Julie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a traged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a tragedy many of the main characters die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-1768320" y="552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Picture 6" descr="Leighton"/>
          <p:cNvPicPr/>
          <p:nvPr/>
        </p:nvPicPr>
        <p:blipFill>
          <a:blip r:embed="rId1"/>
          <a:stretch/>
        </p:blipFill>
        <p:spPr>
          <a:xfrm>
            <a:off x="3962520" y="1676520"/>
            <a:ext cx="4221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The End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40" name="Object 4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9a7f32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a7f32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402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ll’s Cro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kespeare was born  in 1564 in Stratford-on-Av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n of John &amp; Mary A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milar to the home young Shakespeare may have grown up 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Picture 5" descr="croft"/>
          <p:cNvPicPr/>
          <p:nvPr/>
        </p:nvPicPr>
        <p:blipFill>
          <a:blip r:embed="rId1"/>
          <a:stretch/>
        </p:blipFill>
        <p:spPr>
          <a:xfrm>
            <a:off x="762120" y="253692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spea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cho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583 Married  Anne Hathaw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sanna, Hamnet, Judi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 Dark Ye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Picture 6" descr="shake2"/>
          <p:cNvPicPr/>
          <p:nvPr/>
        </p:nvPicPr>
        <p:blipFill>
          <a:blip r:embed="rId1"/>
          <a:stretch/>
        </p:blipFill>
        <p:spPr>
          <a:xfrm>
            <a:off x="4867200" y="1905120"/>
            <a:ext cx="34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in 1600’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36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ditions in London were not pleasant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mes of the poor were small and dir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wage ran in open ditches in the stre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vercrowding and unemployment were major problems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Picture 5" descr="VisscherLondonBridgesm"/>
          <p:cNvPicPr/>
          <p:nvPr/>
        </p:nvPicPr>
        <p:blipFill>
          <a:blip r:embed="rId2"/>
          <a:stretch/>
        </p:blipFill>
        <p:spPr>
          <a:xfrm>
            <a:off x="1039680" y="1752480"/>
            <a:ext cx="368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Bri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Picture 6" descr="londonbridgemed"/>
          <p:cNvPicPr/>
          <p:nvPr/>
        </p:nvPicPr>
        <p:blipFill>
          <a:blip r:embed="rId1"/>
          <a:stretch/>
        </p:blipFill>
        <p:spPr>
          <a:xfrm>
            <a:off x="2819520" y="1828800"/>
            <a:ext cx="59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he New Globe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00400" y="41148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051840" y="-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7" name="Picture 6" descr="Globe99sm"/>
          <p:cNvPicPr/>
          <p:nvPr/>
        </p:nvPicPr>
        <p:blipFill>
          <a:blip r:embed="rId1"/>
          <a:stretch/>
        </p:blipFill>
        <p:spPr>
          <a:xfrm>
            <a:off x="6248520" y="5715000"/>
            <a:ext cx="228600" cy="17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newglobe"/>
          <p:cNvPicPr/>
          <p:nvPr/>
        </p:nvPicPr>
        <p:blipFill>
          <a:blip r:embed="rId2"/>
          <a:stretch/>
        </p:blipFill>
        <p:spPr>
          <a:xfrm>
            <a:off x="1981080" y="2057400"/>
            <a:ext cx="57913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Glob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ocated on the south bank of the Tha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most famous London Playh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wned by the Burbage fami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lew a flag to announce a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cting companies used boys to play female rol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wealthy’s view of the st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3" name="Picture 5" descr="audi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765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The Heavens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s seen by the groundl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6" name="Picture 5" descr="scfrns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23:48Z</dcterms:created>
  <dc:creator>GCHS</dc:creator>
  <dc:description/>
  <dc:language>en-US</dc:language>
  <cp:lastModifiedBy>dk</cp:lastModifiedBy>
  <dcterms:modified xsi:type="dcterms:W3CDTF">2010-05-12T12:06:05Z</dcterms:modified>
  <cp:revision>39</cp:revision>
  <dc:subject/>
  <dc:title>romeo and juliet</dc:title>
</cp:coreProperties>
</file>