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image6.png" ContentType="image/png"/>
  <Override PartName="/ppt/media/LASER.WAV" ContentType="audio/x-wav"/>
  <Override PartName="/ppt/media/GLASS.WAV" ContentType="audio/x-wav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image3.wmf" ContentType="image/x-wmf"/>
  <Override PartName="/ppt/media/image2.jpeg" ContentType="image/jpeg"/>
  <Override PartName="/ppt/media/RICOCHET.WAV" ContentType="audio/x-wav"/>
  <Override PartName="/ppt/media/image1.png" ContentType="image/png"/>
  <Override PartName="/ppt/media/APPLAUSE.WAV" ContentType="audio/x-wav"/>
  <Override PartName="/ppt/media/CLAP.WAV" ContentType="audio/x-wav"/>
  <Override PartName="/ppt/media/image15.wmf" ContentType="image/x-wmf"/>
  <Override PartName="/ppt/media/GUNSHOT.WAV" ContentType="audio/x-wav"/>
  <Override PartName="/ppt/media/image12.jpeg" ContentType="image/jpeg"/>
  <Override PartName="/ppt/media/image13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14.jpeg" ContentType="image/jpeg"/>
  <Override PartName="/ppt/media/WHOOSH.WAV" ContentType="audio/x-wav"/>
  <Override PartName="/ppt/media/PROJCTOR.WAV" ContentType="audio/x-wav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B214-B46A-4F46-B6E3-6720924E9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4B3A-4376-41D0-81A4-13E446F9B61F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F16F-EC0F-45CB-82B0-44231B3E40D6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0642-7C33-47DF-92C7-331100BB3C40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DE68-AA30-4E90-9CF3-FDB62B1438E0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0B21-40FC-4816-8E0C-9CBBF563CA67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A42F-5C8D-48E5-8031-3C2DBB647661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55BC-8C64-4BCD-94A1-0A6E9EA1703E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10D8-808E-418C-81F8-CA226AC7CD29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6DC8-8FC7-4E18-84F2-5C5B91443CC8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EDF4-34A5-447A-B760-9FA96B1115D1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AFA1-B026-4B4B-8F2B-C09ECDA5155D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E78D-BE72-4CF2-BEA6-78EF5F714A31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08E9-00EC-42A7-BC9C-8F5894DF2514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B4F0-FB2E-4909-8ACA-2B41B778C470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C01B-BBE2-4BFE-A1AE-572817E8DE06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A97-50B1-420B-9102-B694B8CC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CF4-1868-4B31-A185-3D71E5E0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EDD-A92E-4F25-B9C1-FB3163A4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D7C-319C-4FA1-87E2-55FB3711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3304-CA5F-4FBB-ADE8-B49232B8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6BC4-B2E1-43F4-8212-5726BDE3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DCA0-4F9F-485B-B132-7DAD7E23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D6E2-8E8B-4A8E-AFE8-F5F118F4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7197-A4B4-436F-8975-A1EBFE0E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568C-647E-42AC-A09C-41D34436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5FB9-A079-450E-AA79-6D2E44A8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C63-1EA2-456C-B8A3-4A82D9E9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AAA4-17C4-4CE3-9B96-18F6A79D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D5E7-4404-438A-9FE9-A24051BF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9F3B-0CC4-4E58-8A36-7C02172E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3FAC-5DB7-4879-BFE6-4D427C06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D0F9-59F6-4AFB-A91D-7BFC179A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EB7-9003-4195-BEA8-808C53C6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D03-2065-485D-B479-D14E1850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682-01EB-41F0-B1E7-F031E837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551-4079-4ED1-ADAB-B85FF01C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DB0-D874-430C-A105-525CFDC3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CFD-5A25-4D7E-B651-673EE4F9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58A-00EF-4625-A3C1-7D8888C9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CF9C-CC2E-4089-8CB2-4A65B2BB2F7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9686-9A08-44AF-B6C0-785395B1024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The greatest poet and playwrigh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3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0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3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Picture 5" descr="VisscherLondonBridgesm"/>
          <p:cNvPicPr/>
          <p:nvPr/>
        </p:nvPicPr>
        <p:blipFill>
          <a:blip r:embed="rId2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7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3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dk</cp:lastModifiedBy>
  <dcterms:modified xsi:type="dcterms:W3CDTF">2010-05-12T12:06:05Z</dcterms:modified>
  <cp:revision>39</cp:revision>
  <dc:subject/>
  <dc:title>romeo and juliet</dc:title>
</cp:coreProperties>
</file>